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DE4B-7504-4C9E-9616-616CEAB8D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10C7-93E8-4DD5-AD39-CF98CACD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EEA8-4422-4AB6-8166-648C5C70C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5AE2-E8ED-4874-88ED-EF78D5E50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450D-E6DF-4047-9094-A5E094007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EAA5-B574-4DBC-81FF-1BA955BC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7646-4E7B-470C-A6D7-A81519E1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A293-845F-40B1-B176-B08DC392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853DC-73E1-4A82-A96F-571FD5A6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D567-DB17-4666-8F94-242EF324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A0F0-A86D-4BA0-9C9F-C8A54570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998C-7BB8-43D8-9508-81796068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4565-67CE-4ADB-BFB4-DA011C5F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E5F0-7A11-4CA5-8430-C6AD0032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D4D8-8CDD-4D33-B7C4-174AB2D2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F2F9-6E3D-4E53-8C34-B80984156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41D6-A342-4AE6-B722-6219D4E93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8327-1CA1-4DF8-B016-672AB886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E2EE-0050-44D1-B1F3-8015CAEA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085F-A621-4CDD-8971-CEA9B88E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0A6D-8D78-4656-A8A8-AB858D18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D8D9-8385-4A32-96CE-3D384E3B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EE05-4A6C-4792-9C24-BC69F164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05C4-7045-4821-B67B-019668F3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FE75-8CC5-45E4-9C54-3479CC096C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BCC5-016D-4AD3-AD8C-B702340F74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Marking the Tex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is Marking the Tex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ctive reading strategy that asks students to identify information in the text that is relevant (relates to) the reading purpo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has 3 distinct mark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Numbering Paragrap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Underlin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 Circ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PENC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umbering Paragraph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reading, # each paragrap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the # small &amp; near the paragraph indentation &amp; circle the #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do I Circl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 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s of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s of Pl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are Key Term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ds or phrases that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epeat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used in a unique 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defined by the auth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entral idea (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used to explain or represent an id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relevant to the reading purp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do I Underlin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40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line information that is relevant (relates to the topic) to the reading purp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s: evidence, definitions, explanations, descriptions, data/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ems you are going to (or could) use for quotes in your own wri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line an author’s clai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is a claim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40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ment(s) argued or stated by the auth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laim can be found anywhere in the arti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laim may not be directly written in the arti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13:47:02Z</dcterms:created>
  <dc:creator>teacher</dc:creator>
  <dc:description/>
  <dc:language>en-US</dc:language>
  <cp:lastModifiedBy>teacher</cp:lastModifiedBy>
  <dcterms:modified xsi:type="dcterms:W3CDTF">2009-03-20T16:31:59Z</dcterms:modified>
  <cp:revision>25</cp:revision>
  <dc:subject/>
  <dc:title>Marking the Text</dc:title>
</cp:coreProperties>
</file>